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360" y="-9834840"/>
            <a:ext cx="360" cy="2105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DE6C-970A-4B19-9412-A7935850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848-B64B-47C0-9CC8-13BF5E1B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006-F65E-4EF8-8DC7-ABBBC2DC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80160"/>
            <a:ext cx="25750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D16F-AE4E-4935-AE10-4A48D7D8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1425-E4D6-4F3C-8E18-E8504699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7476-3EB4-43AB-9849-6E901F2D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48C-5DCC-41C8-B211-6AA6FE2B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8B8-059C-4D2B-B9CB-79273CA6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55600"/>
            <a:ext cx="79981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88C-AE2C-4562-8753-50CF9002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4680-26AF-46FD-A2A5-BF99AE81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8016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852-6D16-44DF-9538-138745B9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80160"/>
            <a:ext cx="79977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C81-D75D-4111-A020-CCF9B8B6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55600"/>
            <a:ext cx="79981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352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1760" indent="-39384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38736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0880" indent="-398520">
              <a:lnSpc>
                <a:spcPct val="102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0880" indent="-398520">
              <a:lnSpc>
                <a:spcPct val="102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D79899-385E-4158-840C-A6C62DD5A71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39640" y="2708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39640" y="1714680"/>
            <a:ext cx="8001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9966"/>
                </a:solidFill>
                <a:latin typeface="Verdana"/>
              </a:rPr>
              <a:t>Desenvolvimento e Operacionalização do Projecto – Factores de Gest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 (Trilla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Factores económicos (gestão adequada e racional dos recursos económicos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Formas de gestão económica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Orçamentos (custos de exploração e investimento e proveitos) pormenorizados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Procedência e tipologia do financiamento (incluindo a contribuição pública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Mapas de demonstrações de resultados, de tesouraria e balanço económic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Resultados económicos e financeiro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 (Trilla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Factores éticos e deontológicos (código deontológico que é exigido aos participantes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Deontologia profissional exigida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Segredo profissional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Legitimidade da intervençã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Protecção dos direitos individuai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Garantias aos utilizadores e atenção às reclamaçõ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 (Trilla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Outros factores específic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Aspectos relacionados com campos específicos sobre os quais o projecto se debruça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Processo de avaliação (programar a gestão do processo de avaliação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Instauração do processo de avaliaçã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Formas de avaliação do processo: impacto e resultados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lementos técnicos da avaliação; registos, indicadores, etc.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Planificação temporal da avaliação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Quadro de Medidas (Pena, 2002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Matriz de duas entradas com os problemas terminais (de base) nas colunas e as respectivas soluções nas linha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Implica procurar diferentes medidas que resolvam os problemas identificados, por exemplo, nas árvores de problemas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Medidas técnicas, organizativas e voltadas para as competências das pessoa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O preenchimento é feito através da representação na matriz duma escala da importância da medida na resolução de cada um dos problem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78560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686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86160" indent="-520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Quadro de Medidas 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(Pena, 2002)</a:t>
            </a: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000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– de muito importante a pouco importante para a resolução do problema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063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063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71680" y="2357280"/>
          <a:ext cx="8001000" cy="3341880"/>
        </p:xfrm>
        <a:graphic>
          <a:graphicData uri="http://schemas.openxmlformats.org/drawingml/2006/table">
            <a:tbl>
              <a:tblPr/>
              <a:tblGrid>
                <a:gridCol w="1000080"/>
                <a:gridCol w="1000080"/>
                <a:gridCol w="1000080"/>
                <a:gridCol w="1000080"/>
                <a:gridCol w="1000080"/>
                <a:gridCol w="1000080"/>
                <a:gridCol w="1000080"/>
                <a:gridCol w="10004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blemas de base e medida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blema 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blema 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blema 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blema 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blema 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blema 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blema 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da 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da 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da 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da 4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da 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da 6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da 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Plano Operacion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Mapa em que as medidas são tipificadas e sistematizada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A sistematização deve envolver as diversas fases da execução das medidas, implicando estruturar as condições financeiras, temporais e de recursos humanos  necessárias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Inclui a calendarização das medidas, recursos e custos associados e responsabilidad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Plano operacional - formato Gantt 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(Schiefer </a:t>
            </a:r>
            <a:r>
              <a:rPr b="0" i="1" lang="pt-PT" sz="1800" spc="-1" strike="noStrike">
                <a:solidFill>
                  <a:srgbClr val="00664d"/>
                </a:solidFill>
                <a:latin typeface="Verdana"/>
              </a:rPr>
              <a:t>et al</a:t>
            </a:r>
            <a:r>
              <a:rPr b="0" lang="pt-PT" sz="1800" spc="-1" strike="noStrike">
                <a:solidFill>
                  <a:srgbClr val="00664d"/>
                </a:solidFill>
                <a:latin typeface="Verdana"/>
              </a:rPr>
              <a:t>, 2006)</a:t>
            </a:r>
            <a:r>
              <a:rPr b="0" lang="en-GB" sz="1800" spc="-1" strike="noStrike">
                <a:solidFill>
                  <a:srgbClr val="00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71680" y="2428920"/>
          <a:ext cx="8001000" cy="3643200"/>
        </p:xfrm>
        <a:graphic>
          <a:graphicData uri="http://schemas.openxmlformats.org/drawingml/2006/table">
            <a:tbl>
              <a:tblPr/>
              <a:tblGrid>
                <a:gridCol w="1000080"/>
                <a:gridCol w="1000080"/>
                <a:gridCol w="1000080"/>
                <a:gridCol w="1000080"/>
                <a:gridCol w="1000080"/>
                <a:gridCol w="1000080"/>
                <a:gridCol w="1000080"/>
                <a:gridCol w="100044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ividad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lendári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ursos humano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ursos materiai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usto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ganização responsáve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ssoa responsáve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entário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dade 1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dade 1.1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dade 1.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dade 1.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dade 2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dade 2.1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dade 2.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Plano Operacional – formato Gant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Podem ser detectados conflitos potenciais entre diferentes actividades, em termos temporais ou de utilização de recursos comun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O planeamento geral dos custos do projecto é facilitado, uma vez que se tem uma visão geral das necessidades totais em termos de mão-de-obra, materiais e equipament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A supervisão do projecto é mais fácil na medida em que as responsabilidades  das organizações e das pessoas ficam claramente definidas (Schiefer </a:t>
            </a:r>
            <a:r>
              <a:rPr b="0" i="1" lang="pt-PT" sz="1600" spc="-1" strike="noStrike">
                <a:solidFill>
                  <a:srgbClr val="000000"/>
                </a:solidFill>
                <a:latin typeface="Verdana"/>
              </a:rPr>
              <a:t>et al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, 2006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Marcador de Posição da Data 1"/>
          <p:cNvSpPr/>
          <p:nvPr/>
        </p:nvSpPr>
        <p:spPr>
          <a:xfrm>
            <a:off x="60948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grama 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1" lang="en-GB" sz="1200" spc="-1" strike="noStrike">
                <a:solidFill>
                  <a:srgbClr val="3333cc"/>
                </a:solidFill>
                <a:latin typeface="Verdana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t -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IF/OIT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.Vid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947880" y="228600"/>
            <a:ext cx="7146720" cy="11253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riz do quadro lógico o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riz de planeamento de projec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2"/>
          <p:cNvSpPr/>
          <p:nvPr/>
        </p:nvSpPr>
        <p:spPr>
          <a:xfrm>
            <a:off x="723960" y="1981080"/>
            <a:ext cx="76658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23960" y="1981080"/>
            <a:ext cx="7665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723960" y="1981080"/>
            <a:ext cx="1440" cy="3657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723960" y="1981080"/>
            <a:ext cx="126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25360" y="2008080"/>
            <a:ext cx="7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ios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319800" y="2008080"/>
            <a:ext cx="85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póte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804960" y="2230560"/>
            <a:ext cx="8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scriçã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3186000" y="2230560"/>
            <a:ext cx="100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4721040" y="2230560"/>
            <a:ext cx="95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erificaçã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6319800" y="2230560"/>
            <a:ext cx="58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is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765360" y="2470320"/>
            <a:ext cx="124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ivo ger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792360" y="2690640"/>
            <a:ext cx="169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desenvolvimento ou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806040" y="2911320"/>
            <a:ext cx="53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lobal)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766800" y="3371760"/>
            <a:ext cx="100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ivo(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799920" y="3594240"/>
            <a:ext cx="10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pecífico(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801720" y="381492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imediatos)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01720" y="42750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768960" y="4735440"/>
            <a:ext cx="91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804960" y="519588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21"/>
          <p:cNvSpPr/>
          <p:nvPr/>
        </p:nvSpPr>
        <p:spPr>
          <a:xfrm flipV="1">
            <a:off x="31050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3105000" y="1971720"/>
            <a:ext cx="12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723960" y="1981080"/>
            <a:ext cx="23702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723960" y="1981080"/>
            <a:ext cx="23702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3094200" y="1971720"/>
            <a:ext cx="36360" cy="2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26"/>
          <p:cNvSpPr/>
          <p:nvPr/>
        </p:nvSpPr>
        <p:spPr>
          <a:xfrm>
            <a:off x="723960" y="2211480"/>
            <a:ext cx="23702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723960" y="2211480"/>
            <a:ext cx="23702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 flipV="1">
            <a:off x="464184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4641840" y="197172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4629240" y="2000160"/>
            <a:ext cx="3636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>
            <a:off x="3130560" y="221148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32"/>
          <p:cNvSpPr/>
          <p:nvPr/>
        </p:nvSpPr>
        <p:spPr>
          <a:xfrm>
            <a:off x="3130560" y="221148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33"/>
          <p:cNvSpPr/>
          <p:nvPr/>
        </p:nvSpPr>
        <p:spPr>
          <a:xfrm flipV="1">
            <a:off x="6237360" y="1979280"/>
            <a:ext cx="144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4"/>
          <p:cNvSpPr/>
          <p:nvPr/>
        </p:nvSpPr>
        <p:spPr>
          <a:xfrm>
            <a:off x="623736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5"/>
          <p:cNvSpPr/>
          <p:nvPr/>
        </p:nvSpPr>
        <p:spPr>
          <a:xfrm>
            <a:off x="6226200" y="2000160"/>
            <a:ext cx="349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36"/>
          <p:cNvSpPr/>
          <p:nvPr/>
        </p:nvSpPr>
        <p:spPr>
          <a:xfrm>
            <a:off x="4665600" y="221148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7"/>
          <p:cNvSpPr/>
          <p:nvPr/>
        </p:nvSpPr>
        <p:spPr>
          <a:xfrm>
            <a:off x="4665600" y="221148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38"/>
          <p:cNvSpPr/>
          <p:nvPr/>
        </p:nvSpPr>
        <p:spPr>
          <a:xfrm flipV="1">
            <a:off x="8377200" y="1979280"/>
            <a:ext cx="1800" cy="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9"/>
          <p:cNvSpPr/>
          <p:nvPr/>
        </p:nvSpPr>
        <p:spPr>
          <a:xfrm>
            <a:off x="8377200" y="197172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40"/>
          <p:cNvSpPr/>
          <p:nvPr/>
        </p:nvSpPr>
        <p:spPr>
          <a:xfrm>
            <a:off x="8366040" y="2000160"/>
            <a:ext cx="3672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1"/>
          <p:cNvSpPr/>
          <p:nvPr/>
        </p:nvSpPr>
        <p:spPr>
          <a:xfrm>
            <a:off x="711360" y="2432160"/>
            <a:ext cx="23828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42"/>
          <p:cNvSpPr/>
          <p:nvPr/>
        </p:nvSpPr>
        <p:spPr>
          <a:xfrm>
            <a:off x="723960" y="1981080"/>
            <a:ext cx="1440" cy="451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3"/>
          <p:cNvSpPr/>
          <p:nvPr/>
        </p:nvSpPr>
        <p:spPr>
          <a:xfrm>
            <a:off x="723960" y="1981080"/>
            <a:ext cx="12600" cy="45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44"/>
          <p:cNvSpPr/>
          <p:nvPr/>
        </p:nvSpPr>
        <p:spPr>
          <a:xfrm>
            <a:off x="747720" y="311472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45"/>
          <p:cNvSpPr/>
          <p:nvPr/>
        </p:nvSpPr>
        <p:spPr>
          <a:xfrm>
            <a:off x="747720" y="311472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46"/>
          <p:cNvSpPr/>
          <p:nvPr/>
        </p:nvSpPr>
        <p:spPr>
          <a:xfrm>
            <a:off x="3130560" y="311472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7"/>
          <p:cNvSpPr/>
          <p:nvPr/>
        </p:nvSpPr>
        <p:spPr>
          <a:xfrm>
            <a:off x="3130560" y="311472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48"/>
          <p:cNvSpPr/>
          <p:nvPr/>
        </p:nvSpPr>
        <p:spPr>
          <a:xfrm>
            <a:off x="4665600" y="311472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9"/>
          <p:cNvSpPr/>
          <p:nvPr/>
        </p:nvSpPr>
        <p:spPr>
          <a:xfrm>
            <a:off x="4665600" y="311472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50"/>
          <p:cNvSpPr/>
          <p:nvPr/>
        </p:nvSpPr>
        <p:spPr>
          <a:xfrm>
            <a:off x="747720" y="401796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1"/>
          <p:cNvSpPr/>
          <p:nvPr/>
        </p:nvSpPr>
        <p:spPr>
          <a:xfrm>
            <a:off x="747720" y="4017960"/>
            <a:ext cx="23464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52"/>
          <p:cNvSpPr/>
          <p:nvPr/>
        </p:nvSpPr>
        <p:spPr>
          <a:xfrm>
            <a:off x="3130560" y="401796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3"/>
          <p:cNvSpPr/>
          <p:nvPr/>
        </p:nvSpPr>
        <p:spPr>
          <a:xfrm>
            <a:off x="3130560" y="4017960"/>
            <a:ext cx="149868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54"/>
          <p:cNvSpPr/>
          <p:nvPr/>
        </p:nvSpPr>
        <p:spPr>
          <a:xfrm>
            <a:off x="4665600" y="401796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55"/>
          <p:cNvSpPr/>
          <p:nvPr/>
        </p:nvSpPr>
        <p:spPr>
          <a:xfrm>
            <a:off x="4665600" y="4017960"/>
            <a:ext cx="156060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56"/>
          <p:cNvSpPr/>
          <p:nvPr/>
        </p:nvSpPr>
        <p:spPr>
          <a:xfrm>
            <a:off x="747720" y="447840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57"/>
          <p:cNvSpPr/>
          <p:nvPr/>
        </p:nvSpPr>
        <p:spPr>
          <a:xfrm>
            <a:off x="747720" y="447840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58"/>
          <p:cNvSpPr/>
          <p:nvPr/>
        </p:nvSpPr>
        <p:spPr>
          <a:xfrm>
            <a:off x="3130560" y="447840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9"/>
          <p:cNvSpPr/>
          <p:nvPr/>
        </p:nvSpPr>
        <p:spPr>
          <a:xfrm>
            <a:off x="3130560" y="4478400"/>
            <a:ext cx="14986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0"/>
          <p:cNvSpPr/>
          <p:nvPr/>
        </p:nvSpPr>
        <p:spPr>
          <a:xfrm>
            <a:off x="4665600" y="447840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1"/>
          <p:cNvSpPr/>
          <p:nvPr/>
        </p:nvSpPr>
        <p:spPr>
          <a:xfrm>
            <a:off x="4665600" y="447840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62"/>
          <p:cNvSpPr/>
          <p:nvPr/>
        </p:nvSpPr>
        <p:spPr>
          <a:xfrm>
            <a:off x="747720" y="4938840"/>
            <a:ext cx="2346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3"/>
          <p:cNvSpPr/>
          <p:nvPr/>
        </p:nvSpPr>
        <p:spPr>
          <a:xfrm>
            <a:off x="747720" y="4938840"/>
            <a:ext cx="2346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64"/>
          <p:cNvSpPr/>
          <p:nvPr/>
        </p:nvSpPr>
        <p:spPr>
          <a:xfrm>
            <a:off x="3130560" y="4938840"/>
            <a:ext cx="14986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5"/>
          <p:cNvSpPr/>
          <p:nvPr/>
        </p:nvSpPr>
        <p:spPr>
          <a:xfrm>
            <a:off x="3143160" y="4786200"/>
            <a:ext cx="14986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400" spc="-1" strike="noStrike">
                <a:solidFill>
                  <a:srgbClr val="0d0d0d"/>
                </a:solidFill>
                <a:latin typeface="Arial"/>
              </a:rPr>
              <a:t>Orçamen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66"/>
          <p:cNvSpPr/>
          <p:nvPr/>
        </p:nvSpPr>
        <p:spPr>
          <a:xfrm>
            <a:off x="4665600" y="4938840"/>
            <a:ext cx="1560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7"/>
          <p:cNvSpPr/>
          <p:nvPr/>
        </p:nvSpPr>
        <p:spPr>
          <a:xfrm>
            <a:off x="4665600" y="4938840"/>
            <a:ext cx="1560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68"/>
          <p:cNvSpPr/>
          <p:nvPr/>
        </p:nvSpPr>
        <p:spPr>
          <a:xfrm>
            <a:off x="747720" y="5398920"/>
            <a:ext cx="23464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69"/>
          <p:cNvSpPr/>
          <p:nvPr/>
        </p:nvSpPr>
        <p:spPr>
          <a:xfrm>
            <a:off x="747720" y="5398920"/>
            <a:ext cx="2346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70"/>
          <p:cNvSpPr/>
          <p:nvPr/>
        </p:nvSpPr>
        <p:spPr>
          <a:xfrm>
            <a:off x="3130560" y="5398920"/>
            <a:ext cx="14986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71"/>
          <p:cNvSpPr/>
          <p:nvPr/>
        </p:nvSpPr>
        <p:spPr>
          <a:xfrm>
            <a:off x="3130560" y="5398920"/>
            <a:ext cx="14986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2"/>
          <p:cNvSpPr/>
          <p:nvPr/>
        </p:nvSpPr>
        <p:spPr>
          <a:xfrm>
            <a:off x="4665600" y="5398920"/>
            <a:ext cx="15606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73"/>
          <p:cNvSpPr/>
          <p:nvPr/>
        </p:nvSpPr>
        <p:spPr>
          <a:xfrm>
            <a:off x="4665600" y="5398920"/>
            <a:ext cx="15606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4"/>
          <p:cNvSpPr/>
          <p:nvPr/>
        </p:nvSpPr>
        <p:spPr>
          <a:xfrm>
            <a:off x="711360" y="2460600"/>
            <a:ext cx="36360" cy="318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75"/>
          <p:cNvSpPr/>
          <p:nvPr/>
        </p:nvSpPr>
        <p:spPr>
          <a:xfrm>
            <a:off x="3094200" y="2211480"/>
            <a:ext cx="3636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76"/>
          <p:cNvSpPr/>
          <p:nvPr/>
        </p:nvSpPr>
        <p:spPr>
          <a:xfrm>
            <a:off x="4629240" y="2211480"/>
            <a:ext cx="3636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77"/>
          <p:cNvSpPr/>
          <p:nvPr/>
        </p:nvSpPr>
        <p:spPr>
          <a:xfrm>
            <a:off x="6226200" y="2211480"/>
            <a:ext cx="349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8"/>
          <p:cNvSpPr/>
          <p:nvPr/>
        </p:nvSpPr>
        <p:spPr>
          <a:xfrm>
            <a:off x="8366040" y="2211480"/>
            <a:ext cx="36720" cy="343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79"/>
          <p:cNvSpPr/>
          <p:nvPr/>
        </p:nvSpPr>
        <p:spPr>
          <a:xfrm>
            <a:off x="3130560" y="197172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80"/>
          <p:cNvSpPr/>
          <p:nvPr/>
        </p:nvSpPr>
        <p:spPr>
          <a:xfrm>
            <a:off x="6261120" y="221148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81"/>
          <p:cNvSpPr/>
          <p:nvPr/>
        </p:nvSpPr>
        <p:spPr>
          <a:xfrm>
            <a:off x="6261120" y="221148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130560" y="2432160"/>
            <a:ext cx="52722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3"/>
          <p:cNvSpPr/>
          <p:nvPr/>
        </p:nvSpPr>
        <p:spPr>
          <a:xfrm>
            <a:off x="6261120" y="311472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84"/>
          <p:cNvSpPr/>
          <p:nvPr/>
        </p:nvSpPr>
        <p:spPr>
          <a:xfrm>
            <a:off x="6261120" y="311472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85"/>
          <p:cNvSpPr/>
          <p:nvPr/>
        </p:nvSpPr>
        <p:spPr>
          <a:xfrm>
            <a:off x="747720" y="333540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86"/>
          <p:cNvSpPr/>
          <p:nvPr/>
        </p:nvSpPr>
        <p:spPr>
          <a:xfrm>
            <a:off x="6261120" y="401796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87"/>
          <p:cNvSpPr/>
          <p:nvPr/>
        </p:nvSpPr>
        <p:spPr>
          <a:xfrm>
            <a:off x="6261120" y="4017960"/>
            <a:ext cx="21049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88"/>
          <p:cNvSpPr/>
          <p:nvPr/>
        </p:nvSpPr>
        <p:spPr>
          <a:xfrm>
            <a:off x="747720" y="423864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89"/>
          <p:cNvSpPr/>
          <p:nvPr/>
        </p:nvSpPr>
        <p:spPr>
          <a:xfrm>
            <a:off x="6261120" y="447840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90"/>
          <p:cNvSpPr/>
          <p:nvPr/>
        </p:nvSpPr>
        <p:spPr>
          <a:xfrm>
            <a:off x="6261120" y="447840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91"/>
          <p:cNvSpPr/>
          <p:nvPr/>
        </p:nvSpPr>
        <p:spPr>
          <a:xfrm>
            <a:off x="747720" y="4699080"/>
            <a:ext cx="76550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92"/>
          <p:cNvSpPr/>
          <p:nvPr/>
        </p:nvSpPr>
        <p:spPr>
          <a:xfrm>
            <a:off x="6261120" y="4938840"/>
            <a:ext cx="21049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93"/>
          <p:cNvSpPr/>
          <p:nvPr/>
        </p:nvSpPr>
        <p:spPr>
          <a:xfrm>
            <a:off x="6261120" y="4938840"/>
            <a:ext cx="2104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94"/>
          <p:cNvSpPr/>
          <p:nvPr/>
        </p:nvSpPr>
        <p:spPr>
          <a:xfrm>
            <a:off x="747720" y="5159520"/>
            <a:ext cx="7655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95"/>
          <p:cNvSpPr/>
          <p:nvPr/>
        </p:nvSpPr>
        <p:spPr>
          <a:xfrm>
            <a:off x="6261120" y="5398920"/>
            <a:ext cx="210492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96"/>
          <p:cNvSpPr/>
          <p:nvPr/>
        </p:nvSpPr>
        <p:spPr>
          <a:xfrm>
            <a:off x="6261120" y="5398920"/>
            <a:ext cx="2104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97"/>
          <p:cNvSpPr/>
          <p:nvPr/>
        </p:nvSpPr>
        <p:spPr>
          <a:xfrm>
            <a:off x="747720" y="5619600"/>
            <a:ext cx="765504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Para executar os conteúdos e objectivos dum projecto num contexto determinado é necessária a utilização dum conjunto de factores de gestão, entendidos como cada um dos elementos ou das circunstâncias que irão permitir obter o resultado pretendido (Trilla, 2004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A gestão é a tomada de decisões entre um conjunto de recursos, possibilidades, técnicas e instrumentos que se colocam à disposição dum objectivo final.</a:t>
            </a: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 (Trilla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Planificação e programaçã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Factores jurídic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Factores organizativos e recursos human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Factores infraestruturais e técnic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Gestão da imagem e da comunicaçã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Gestão das relaçõe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Factores económic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Factores éticos e deontológic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Outros factores específic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Processo de avaliaçã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 (Trilla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Planificação e programação (desenvolvimento, sequência e distribuição no tempo das diferentes acçõ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Selecção das tipologias de programação e planificação mais adequadas aos conteúdos e objectivo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Previsão e estabelecimento da sequência das tarefa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Temporização das tarefa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Formalização da planificação: gráficos, diagramas, cronograma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tc.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 (Trilla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Factores jurídicos (relação com âmbitos e normas jurídicas; compilar e ponderar a influência destes factores na concretização do projecto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Legislação básica relacionada com o project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Legislação fiscal, tributária e laboral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Responsabilidade jurídica, penal e civil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Previsão e gestão de risco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tc.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 (Trilla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Factores organizativos e recursos humanos (propostas de estruturação da organização formal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strutura da organização formal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Modelo de organização, etapas ou fases da organização, níveis de responsabilidade, circuito administrativo e de circulação da informaçã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Número de pessoas necessárias, distribuição de funções, perfis e postos de trabalho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Orientação geral do tratamento dos recursos humanos, formação, condições de trabalh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tc.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 (Trilla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Factores infra-estruturais e técnicos (adequação das infraestruturas, equipamento técnico necessário, formas de gestão e de utilização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Descrição das infraestruturas imobiliárias e espaços necessários e da adequação de espaços existente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Processos de aquisição, aluguer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quipamento técnico de acordo com a finalidade e a programaçã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Previsão e forma da manutenção; controlo, monitorização e segurança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tc.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 (Trilla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Gestão da imagem e da comunicação (concepção duma política de comunicação e imagem para o projecto de acordo com a finalidade social e os objectivos 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Imagem corporativa da instituição/project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Política de comunicação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Difusão, visibilidade e concepçã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Etc.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0099"/>
                </a:solidFill>
                <a:latin typeface="Verdana"/>
              </a:rPr>
              <a:t>Concepção, Gestão e Avaliação de Proj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75420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Factores de Gestão do Projecto (Trilla, 2004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1871640" indent="-525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Gestão das relações (prever a manutenção e a potenciação das relações entre o projecto e o contexto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Relações do projecto com o ambiente de acordo com a finalidade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Relações com os diferentes níveis da administração pública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Relações com outras instituições semelhantes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Relações com os meios de comunicaçã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Relações com os utentes e grupos alvo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2268360" indent="-52524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Verdana"/>
              </a:rPr>
              <a:t>Relações internas.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os Fonseca</dc:creator>
  <dc:description/>
  <dc:language>en-US</dc:language>
  <cp:lastModifiedBy>Operador</cp:lastModifiedBy>
  <dcterms:modified xsi:type="dcterms:W3CDTF">2008-04-17T15:12:49Z</dcterms:modified>
  <cp:revision>524</cp:revision>
  <dc:subject/>
  <dc:title>Introdução às Políticas Agrárias</dc:title>
</cp:coreProperties>
</file>